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C2D28-5D1C-4B18-BCDB-C777405B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9B998-5636-4F83-849E-ABAC0A7C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ACB58-1E69-45E0-BB13-A506319C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C370C-1079-46EF-A4DF-7F5C20BC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B8685-D0FF-4DAE-9038-020B2095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BB5A5-7185-4AAA-8A23-3AA1E341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76BC4-0A19-48F5-BC63-E290F2F8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980C1-D325-47F0-A23C-74A746D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CFD6A-DB81-4715-AA5E-78D7A2D3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B53C3-E531-4637-B4C8-F45CAAFC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FF595-9DFF-46B7-B1E3-74CFD1E5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60B36-64C1-416D-893F-80259194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IS Infrastructure Overview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B302-DC05-4F37-B0F0-BA5CA30ACA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 Infrastructure Overview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xx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terns of 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 Group classifies infrastructure into three basic interaction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 patt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s with business data is stored for a long time e.g. customer orders, student registration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 patt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s with read-only data e.g. online marketing information, student grade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terns of Infrastructure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e patt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s where documents are shared between multiple users e.g. product design document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act Patter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s of archite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Tier (commonly known as client/serv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/N-Tier (commonly known as web-base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010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frame with “dumb” termin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905120" y="2895480"/>
          <a:ext cx="5686200" cy="20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568620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Tier Transact Patter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2120" y="2057400"/>
            <a:ext cx="3783960" cy="2921040"/>
            <a:chOff x="762120" y="2057400"/>
            <a:chExt cx="3783960" cy="2921040"/>
          </a:xfrm>
        </p:grpSpPr>
        <p:graphicFrame>
          <p:nvGraphicFramePr>
            <p:cNvPr id="178" name=""/>
            <p:cNvGraphicFramePr/>
            <p:nvPr/>
          </p:nvGraphicFramePr>
          <p:xfrm>
            <a:off x="3504960" y="3124440"/>
            <a:ext cx="1041120" cy="711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04960" y="3124440"/>
                      <a:ext cx="104112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2971800" y="2057400"/>
            <a:ext cx="104076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2057400"/>
                      <a:ext cx="104076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2895480" y="4267440"/>
            <a:ext cx="104112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4267440"/>
                      <a:ext cx="104112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 flipV="1">
              <a:off x="2133360" y="2286000"/>
              <a:ext cx="1142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286000" y="335304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2209320" y="380988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28800" y="2590920"/>
              <a:ext cx="532800" cy="1523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2590920"/>
              <a:ext cx="533160" cy="152388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5280" y="2590920"/>
              <a:ext cx="533160" cy="1523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648320" y="2209680"/>
            <a:ext cx="4267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, scalability, and reli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ive, inflexible, lack of applications, take long time to devel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base server with fat cli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B / Developer 2000 client program + SQL datab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ava client program (applet) + JDBC-compatible data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3124080"/>
          <a:ext cx="712152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12152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-Tier Transact Patter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1460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manageability and deploy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95280" y="2514600"/>
            <a:ext cx="3200400" cy="2590920"/>
            <a:chOff x="1295280" y="2514600"/>
            <a:chExt cx="3200400" cy="2590920"/>
          </a:xfrm>
        </p:grpSpPr>
        <p:sp>
          <p:nvSpPr>
            <p:cNvPr id="198" name=""/>
            <p:cNvSpPr/>
            <p:nvPr/>
          </p:nvSpPr>
          <p:spPr>
            <a:xfrm flipV="1">
              <a:off x="1981080" y="274320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133360" y="38102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2057400" y="426708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657600" y="3581640"/>
              <a:ext cx="838080" cy="380880"/>
              <a:chOff x="3657600" y="3581640"/>
              <a:chExt cx="83808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3962520" y="358164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57600" y="3581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295280" y="3048120"/>
              <a:ext cx="838080" cy="1523880"/>
              <a:chOff x="1295280" y="3048120"/>
              <a:chExt cx="838080" cy="1523880"/>
            </a:xfrm>
          </p:grpSpPr>
          <p:sp>
            <p:nvSpPr>
              <p:cNvPr id="205" name=""/>
              <p:cNvSpPr/>
              <p:nvPr/>
            </p:nvSpPr>
            <p:spPr>
              <a:xfrm>
                <a:off x="1295280" y="3048120"/>
                <a:ext cx="533160" cy="1523880"/>
              </a:xfrm>
              <a:prstGeom prst="rect">
                <a:avLst/>
              </a:prstGeom>
              <a:solidFill>
                <a:srgbClr val="e4f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28440" y="3048120"/>
                <a:ext cx="304920" cy="1523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124080" y="2514600"/>
              <a:ext cx="838080" cy="380880"/>
              <a:chOff x="3124080" y="2514600"/>
              <a:chExt cx="838080" cy="380880"/>
            </a:xfrm>
          </p:grpSpPr>
          <p:sp>
            <p:nvSpPr>
              <p:cNvPr id="208" name=""/>
              <p:cNvSpPr/>
              <p:nvPr/>
            </p:nvSpPr>
            <p:spPr>
              <a:xfrm>
                <a:off x="3429000" y="251460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24080" y="251460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048120" y="4724640"/>
              <a:ext cx="838080" cy="380880"/>
              <a:chOff x="3048120" y="4724640"/>
              <a:chExt cx="838080" cy="38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3353040" y="472464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48120" y="4724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/N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 + TP-Monitor + Databas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+ Web server / App server + Browsers (Thin clien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523880" y="3505320"/>
          <a:ext cx="6426360" cy="22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642636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/N-Tier Transact Patter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09480" y="2209680"/>
            <a:ext cx="4267440" cy="3048120"/>
            <a:chOff x="609480" y="2209680"/>
            <a:chExt cx="4267440" cy="3048120"/>
          </a:xfrm>
        </p:grpSpPr>
        <p:sp>
          <p:nvSpPr>
            <p:cNvPr id="219" name=""/>
            <p:cNvSpPr/>
            <p:nvPr/>
          </p:nvSpPr>
          <p:spPr>
            <a:xfrm flipH="1">
              <a:off x="121932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3792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2209680"/>
              <a:ext cx="1143000" cy="30481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666880" y="2590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191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43200" y="41144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480" y="2895480"/>
              <a:ext cx="609840" cy="152424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520" y="2666880"/>
              <a:ext cx="685800" cy="6098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362320"/>
              <a:ext cx="53352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43400" y="3429000"/>
              <a:ext cx="53352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920" y="464832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2895480"/>
              <a:ext cx="533520" cy="15242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76520" y="342900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6520" y="419112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181480" y="22096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to man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for integ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ghtly difficult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yers of IS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 Infrastruc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physical shared components for multiple appl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services: directory service, portal service authentication serv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d services: payment services, middlew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2120" y="3048120"/>
            <a:ext cx="3504960" cy="1599840"/>
            <a:chOff x="762120" y="3048120"/>
            <a:chExt cx="3504960" cy="1599840"/>
          </a:xfrm>
        </p:grpSpPr>
        <p:sp>
          <p:nvSpPr>
            <p:cNvPr id="237" name=""/>
            <p:cNvSpPr/>
            <p:nvPr/>
          </p:nvSpPr>
          <p:spPr>
            <a:xfrm>
              <a:off x="762120" y="4066200"/>
              <a:ext cx="3504960" cy="58176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ase Infra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120" y="3556800"/>
              <a:ext cx="1121400" cy="436320"/>
            </a:xfrm>
            <a:prstGeom prst="rect">
              <a:avLst/>
            </a:prstGeom>
            <a:solidFill>
              <a:srgbClr val="33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53720" y="3556800"/>
              <a:ext cx="1121400" cy="436320"/>
            </a:xfrm>
            <a:prstGeom prst="rect">
              <a:avLst/>
            </a:prstGeom>
            <a:solidFill>
              <a:srgbClr val="33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5320" y="3556800"/>
              <a:ext cx="1121400" cy="436320"/>
            </a:xfrm>
            <a:prstGeom prst="rect">
              <a:avLst/>
            </a:prstGeom>
            <a:solidFill>
              <a:srgbClr val="33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20" y="3048120"/>
              <a:ext cx="1682280" cy="43632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84440" y="3048120"/>
              <a:ext cx="1682280" cy="43632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twork is Comput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un Micro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e 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1600200"/>
          <a:ext cx="81774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77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e Infrastructure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work ho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er, Application server, Database server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road, an expres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, Intranet, proprietary network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forma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, MIME, EDI, XML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deliv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messe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HTTP, HTTPS, Message Queu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-Tier IS Ser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w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ing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balancing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ach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iness Data Ex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ompanies exchange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mail (snail mai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C department store sends an order form to XYZ cloth manufacture via 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Exchange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-column form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etary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-dependent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/ eb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Deli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exchange data between 2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al: Email attached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: HTTP using form uplo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: HTTP + SSL = HTT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: using message que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of Base 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is a global net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becomes very impor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acking prevention: firewall, VPN, I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ed data transfer: encryption algorithms, security protocol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long (turn-around time) can a user tolerat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we have more users, can the system still respond within a certain period of tim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we have new services, can the system provide new services while it still meets the responsiveness crite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 /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9% of 7 x 24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difficult is it for the admins to deploy, maintain, and upgrade the system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requirements dictates IS infra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tern of infrastruct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Infrastructure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work hor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road, an express 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forma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messeng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should you learn from this class (I hope)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information system architecture evolv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components and their function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omponent, what choices do you hav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hoice, what are their pros and con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arhoom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“Building a Successful E-Business: The FedEx Story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unication of A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 46, No. 4, April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Turb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for Management: Transforming Business in the Digital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hn Wiley &amp; Sons, Inc.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Robertson and V. Sriba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aptive Enterp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tel Press, January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Till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“The State of Net-Centric Computing in Early 2001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Proceeding of the 3rd International Workshop in Net-Centric Compu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2001, pp. 57-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Tilley, “The Era of Net-Centric Computing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I Inter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1, No.1, June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Peacock, “Distributed Architecture Technologies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EE IT Profess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/June 2000, pp. 58-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What will NOT be taught in this class 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write a Java (or other languages) progr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reate a web p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protocols and equip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dEx Case Revisi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N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ldwide overnight shi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% market sh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00 million transactions per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, reliable, and afford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compet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dEx Case Revisited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e efficient IT infrastructure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-to-one customer relationshi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ding business from logistic to supply chain servi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cking in customers with tighter IT integr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anding services geographical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dEx Case Revisited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efficient and real-time 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flexible services over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 and scalable to meet the current and future dem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wide-range of integ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reasonable costs (build, operate, and maintai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dEx Case Revisited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3880" y="1752480"/>
          <a:ext cx="615636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1563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dEx Case Revisited (5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14600" y="2057400"/>
          <a:ext cx="431496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431496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07-07T02:59:10Z</dcterms:modified>
  <cp:revision>33</cp:revision>
  <dc:subject/>
  <dc:title>Net-Centric Computing Overview</dc:title>
</cp:coreProperties>
</file>